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22E1-A2BF-499C-91B6-BDCB7990E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582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4920" y="4177800"/>
            <a:ext cx="84582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A6C3-7599-4398-A8B5-A2ED02C3C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4127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8960" y="1483920"/>
            <a:ext cx="4127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4920" y="4177800"/>
            <a:ext cx="4127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8960" y="4177800"/>
            <a:ext cx="4127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DEDF-5DA3-46F8-AF7C-5A09B896C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2723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4760" y="1483920"/>
            <a:ext cx="2723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960" y="1483920"/>
            <a:ext cx="2723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4920" y="4177800"/>
            <a:ext cx="2723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4760" y="4177800"/>
            <a:ext cx="2723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960" y="4177800"/>
            <a:ext cx="2723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4CE8-262A-4305-9284-723D3EF673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4582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97FA-A309-4FCD-BAD6-E87B016B66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582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5D0F-85BD-4BEE-8CC4-0DCCF4A67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41274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8960" y="1483920"/>
            <a:ext cx="41274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35CF-6412-4C92-BDB4-9DE12EB28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4FED-18BE-4BCA-A4EC-FC6AF85EC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EAFC-DDC5-4D7F-8D98-924D4EEAF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4127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8960" y="1483920"/>
            <a:ext cx="41274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4920" y="4177800"/>
            <a:ext cx="4127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E4FE-6C6F-4230-B07B-75A21A25F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41274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8960" y="1483920"/>
            <a:ext cx="4127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8960" y="4177800"/>
            <a:ext cx="4127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A6A4-D9F3-431A-988C-519D4EEE3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4127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8960" y="1483920"/>
            <a:ext cx="41274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4920" y="4177800"/>
            <a:ext cx="84582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89DA-0E8C-4241-9A9E-81184E807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26927" b="21822"/>
          <a:stretch/>
        </p:blipFill>
        <p:spPr>
          <a:xfrm>
            <a:off x="4230720" y="1600200"/>
            <a:ext cx="491328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4582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814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69BC-8E5E-447E-8346-59EE61737512}" type="slidenum"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582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Marc per al disseny i la implantació dels plans d’estudis de grau a la UPC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erectorat de Política Acadè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EE84-5016-4FC2-909E-CBDD98838B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3. L’estructura del pla d’estudi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160" y="764640"/>
            <a:ext cx="87822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Crèdits totals dels plans d’estudis: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240 - amb excepcions (p.e., Arquitectu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Crèdits de formació bàsica: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ínim 60, almenys 36 vinculats a matèries bàsiques de la branca de coneixement del tít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aquestes matèries: assignatures amb mínim de 6 crèdits cadascuna; es programaran en la primera meitat del pla d’estud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ls crèdits restants: matèries bàsiques de la mateixa o d’altres branques de coneixement, o altres matèries bàsiques per a la formació inicial de l’estudiant o bé transver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Diferents titulacions d’un centre vinculades al mateix àmbit - 120 crèdits comu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60 de matèries bàsiques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48 de matèries transversals de l’àmbit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12 d’ampliació de matèries bàsiques o científico-tecnològiques transversals de l’àmbit o de competències genèr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8319-78A9-4F1D-85EA-F95AF32967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3. L’estructura del pla d’estudi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160" y="547560"/>
            <a:ext cx="8782200" cy="626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Optativitat del pla d’estudis: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rèdits: màxim 30 en blocs de mínim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aràcter: organització per itineraris; oferta pertinent respecte als objectius de la titulació i introducció al TFG i als mà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Programació: al darrer c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Mobili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aràcter: prioritàriament crèdits optatius i de T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Reconeixement acadèmic: es podran reconèixer un màxim de 6 crèdits optatius addicionals a les estudiantes i als estudiants que participin en programes de mobilitat realitzats a d’altres universitats espanyoles o estrange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Programació: últims quadrimestres del pla d’estu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Pràctiques en empreses: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Tot pla d’estudis ha de contenir una oferta de pràctiques en empr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rèdits: entre 12 i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aràcter: preferentment matèria optativa per a l’estud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Programació: preferentment en la segona meitat del pla d’estu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7D22-A4AC-4C47-A5D2-D5A17977F1B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3. L’estructura del pla d’estudi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80720"/>
            <a:ext cx="8640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Reconeixement acadèmic per la participació de l'estudiantat en activitats d’extensió universitària: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rèdits: màxim 6 optat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Treball de fi de grau: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rèdits: entre 12 i 30; s’ha de dimensionar correctament.</a:t>
            </a:r>
            <a:r>
              <a:rPr b="0" lang="bn-I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FG de 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títols vinculats a professions regulades: mínim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aràct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tèria obligatò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Síntesi de les capacitats adquirides en el procés format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Orientat a l’avaluació de competències pròpies d’algun dels rols professionals dominants o emergents associats al tí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Programació: fase final del pla d’estud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F52D-516C-4232-A7F5-C6891C3F071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4. Organització dels ensenyament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6000" y="764640"/>
            <a:ext cx="874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èdits per any acadèmic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 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endari docent anu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0 setm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tzació temporal de la docènc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ícula anual - en funció dels objectius, es podran programar assignatures de diversa durada – per exe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2924280"/>
          <a:ext cx="8604000" cy="3742920"/>
        </p:xfrm>
        <a:graphic>
          <a:graphicData uri="http://schemas.openxmlformats.org/drawingml/2006/table">
            <a:tbl>
              <a:tblPr/>
              <a:tblGrid>
                <a:gridCol w="2039760"/>
                <a:gridCol w="3579840"/>
                <a:gridCol w="2984400"/>
              </a:tblGrid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SSIGNA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CTI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PLICACI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Llarga du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tipus an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mpetències bàsiques i genèriques científiques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ècniques i tecnològiques que requereixen un temp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llarg per madurar i consolidar coneixement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ínim 9 crèdits / assigna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urada mitj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tipus quadrimestr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mpetències específiques de caràcter científic 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ecnològic que es poden assolir en un període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emps mitjà i requereixen poc temps per madurar 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solidar els coneixem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ínim 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rèdits / assigna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c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tipus seminar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mpetències concretes a assolir en un termini curt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n general de tipus instrumental o transversal, 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specífiques molt concretes que poden ser l'inic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'altres d'abast més ampl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minaris, classes intensives, tutelades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mpartides en poques setma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 - 3 crèdits / assignatur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la suma total de crèdits d’aquests tipu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’assignatures no serà superior a 12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4AA1-64A8-418A-98A6-D56024ECC6D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8785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Distribució de la dedicació de l’estudiantat en funció dels objectiu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00800" y="112680"/>
            <a:ext cx="65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4. Organització dels ensenya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1268280"/>
          <a:ext cx="10225080" cy="698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102250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4E15-F878-4142-B960-74E286DBE17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44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4. Organització dels ensenyament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312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s recomana </a:t>
            </a: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no repetir docència d’assignatures quadrimestrals,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però establir un </a:t>
            </a: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sistema que permeti a l’estudiantat recuperar-les en el mateix curs acadèmic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Elements que han d’especificar les propostes de plans d’estudis pel que fa a la planificació i el desenvolupament de la docència a les matèries i/o assignatur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Objectius generals i específ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Pla d’activitats dels estudiants (disseny de les activitats, metodologia de treball, espais i recursos, mecanismes de retor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ètode d'avaluació</a:t>
            </a: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bn-I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ecanismes per fer pública als estudiants tota la informació rellevant del curs (objectius, activitats, lliuraments, mètode de qualificació, materials d’estudi, etc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Pla de recollida sistemàtica d’informació sobre la marxa del curs (dades sobre la dedicació dels estudiants, opinions dels estudiants i professors, resultats acadèmic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Procediment per al seguiment i la millora continuada del procés format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C569-31C0-4FA9-92C3-209F7505B41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5. Avaluació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6000" y="50472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lu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un model d’aprenentatge basat en competències: valorar el progrés dels estudiants en l’assoliment dels objectius proposa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vells d’avaluaci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la UP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atura / matè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esponsables de la proposta de qualificació: coordinadores/coordinad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 curric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esponsable: el centre. A cada pla d’estudis, mínim tres blocs d’avaluació curricula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èries de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e d’orientaci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ase inicial dels estudis, conté els 60 crèdits de primer c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 de matè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diment mínim en el primer any acadè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12 crèdits ECTS de matèries bàsiques, amb independència de les matrícules formalitz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diment mínim respecte a les matèries bàsiques del pl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l’estudiant no supera els 60 crèdits de matèries bàsiques en 2 anys, pla de matrícula pactat amb el tutor i validat pel cen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ori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da estudianta i estudiant tindrà un tutor assignat des de l’inici dels estud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B637-53F6-441D-81D8-08F2213F3F7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25440" y="115560"/>
            <a:ext cx="94694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006699"/>
                </a:solidFill>
                <a:latin typeface="Arial"/>
              </a:rPr>
              <a:t>6. Indicadors de qualitat relacionats amb el rendiment de l’estudiantat – què ha d’incloure la proposta de pla d’estudi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160" y="1052280"/>
            <a:ext cx="8782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isió de result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cionats amb la se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iciènc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ecanism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ació dels resultats de l’aprenentat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s estudi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do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s resultats previstos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s'hauran d'assolir 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 primers 5 anys acadè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Com a míni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a de gradua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a d’abandon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a d’eficiè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ures de respos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s prevegi aplicar si els resultats es desv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s objectius fix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ificaci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l’estimació, a parti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il d’ingrés recoma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us d’estudiants que accedeixen al pla d’estu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us plantej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u de dedicació dels estudiants a la carr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res elements del context que es considerin apropi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EDDD-66FD-426D-BAAE-0AE363250BC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15560"/>
            <a:ext cx="80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7. Implantació dels plans d’estudis de grau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recomana que la implantació dels plans d’estudis de grau es faci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rs a cu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702640" cy="195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41440" y="3644280"/>
            <a:ext cx="197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inció docència plans 1r cic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39640" y="3974400"/>
            <a:ext cx="5307120" cy="398520"/>
            <a:chOff x="539640" y="3974400"/>
            <a:chExt cx="5307120" cy="398520"/>
          </a:xfrm>
        </p:grpSpPr>
        <p:sp>
          <p:nvSpPr>
            <p:cNvPr id="83" name=""/>
            <p:cNvSpPr/>
            <p:nvPr/>
          </p:nvSpPr>
          <p:spPr>
            <a:xfrm>
              <a:off x="539640" y="4336920"/>
              <a:ext cx="53071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1440" y="3974400"/>
              <a:ext cx="227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inció total plans 1r ci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inció docència plans 1r i 2n cicles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39640" y="1773360"/>
            <a:ext cx="8702640" cy="4960800"/>
            <a:chOff x="539640" y="1773360"/>
            <a:chExt cx="8702640" cy="49608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539640" y="5032440"/>
              <a:ext cx="8691840" cy="170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539640" y="4351680"/>
              <a:ext cx="7199280" cy="459720"/>
              <a:chOff x="539640" y="4351680"/>
              <a:chExt cx="7199280" cy="45972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539640" y="4749480"/>
                <a:ext cx="7199280" cy="1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4680" y="4351680"/>
                <a:ext cx="204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tinció total plans 1r i 2n cicles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Century Gothic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39640" y="1773360"/>
              <a:ext cx="8702640" cy="2087280"/>
              <a:chOff x="539640" y="1773360"/>
              <a:chExt cx="8702640" cy="2087280"/>
            </a:xfrm>
          </p:grpSpPr>
          <p:sp>
            <p:nvSpPr>
              <p:cNvPr id="91" name=""/>
              <p:cNvSpPr/>
              <p:nvPr/>
            </p:nvSpPr>
            <p:spPr>
              <a:xfrm>
                <a:off x="539640" y="3860640"/>
                <a:ext cx="3111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9640" y="1773360"/>
                <a:ext cx="8702640" cy="1954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9F14-E744-4E0E-9E7E-958C89C425E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144360"/>
            <a:ext cx="80629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Annexo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13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ex I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anacions sobre la integració de les competències genèriques als plans d’estudis i exemple de taula de fites anuals per a una competència genèrica: Treball en equ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ex II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èries bàsiques per branca de coneixement establertes a l’annex II del Reial Decret 1393/2007, de 29 d’octubre, pel qual s’estableix l’ordenació dels ensenyaments universitaris ofici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405400" y="182088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5400" y="182088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-1189080" y="1773360"/>
          <a:ext cx="12817440" cy="5400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189080" y="1773360"/>
                    <a:ext cx="1281744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67E2-E195-41A6-B170-48B4E14E133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308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Sumari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1200" y="765000"/>
            <a:ext cx="8120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l model d’aprenentat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L’estructura del pla d’estu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rganització dels enseny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Indicadors de qualitat relacionats amb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rendiment de l’estudian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plantació dels plans d’estudi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gr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Annex I –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Recomanacions sobre la integració de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les competències genèriques als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lans d’estu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Annex II -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atèries bàsiques per branca de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oneixement (RD 1393/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5398-0A69-4851-A70B-E814837D530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1. Introducció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882036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Compromís de la UPC amb l’E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Marc legal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 RD 1393/2007, de 29 de octubre,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or el que se establece la ordenación de las enseñanzas universitarias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ofici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Desenvolupa l’estructura dels ensenyaments universitaris ofic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Promou la diversificació i la flexibilitat curr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Impulsa un canvi en les metodologies do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Instaura la concepció del pla d’estudis com un projecte d’implantació d’un ensenyament universit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Objectiu principal de la UPC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en aquest context: oferir una formació centrada en l’estudiant,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Potenciï l’adquisició de competències acadèmico-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Basi el seu aprenentatge en va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Fome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La creació d’actituds personals i so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L’aprenentatge autòn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La mobili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l desenvolupament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D7D0-E182-41CD-AFD7-AF0808AB6A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71280"/>
            <a:ext cx="78469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1. Introducció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820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El documen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Procés d’elaboració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nstitució d’una comissió de 22 membres, amb representants de tots els col·lectius de la Universi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lassificació de blocs temàtics i organització de tres grups de treball, un per bloc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structura, continguts i característiques de la formació de gra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ètodes i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Organització i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Carà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riteris que cal aplicar (ajuda, no restricció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Recomanacions i orientacions sobre les millors pràctiques respecte a aspectes essencials dels plans d'estud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Un model a seguir per totes les titulacions, encara que es concretin de forma diferent en cada 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Conting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lements de con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Principals conclusions de la comissi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Resultats del debat mantingut pel Consell de Direcció de la UP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B34A-B94E-4DAE-8603-FFE822E04A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853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us ro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’estudiantat i del professor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d’aprenentatge de la UPC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àsicament presenc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determinats casos, es pot duplicar l’oferta implantant el format semipresencial de la titulaci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u principal dels plans d’estudis de grau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quisició de competèn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l’estudiant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èriq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 generals, transvers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specí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6360" y="257040"/>
            <a:ext cx="50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2. El model d’aprenentat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80D6-2D94-45FB-93C5-279C7591F9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9185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. El model d’aprenentatge</a:t>
            </a: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821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Competències genèriques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que hauran d’incloure tots els plans d’estudis de la UP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mprenedoria i innova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Sostenibilit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Tercera llengua (preferentment, l’anglès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Requisits per a l’assoliment de la competència en tercera llengua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Haver obtingut almenys 9 crèdits ECTS corresponents a assignatures impartides en una tercera llen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aborar i defensar el Treball de Fi de Grau en una tercera llen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creditar un nivell mínim corresponent al nivell B2.2 del Marc comú europeu de referència per a les llengü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litzar una estada a una universitat estrangera en el marc d’un conveni de mobilitat i haver obtingut un mínim de 9 crèdits 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municar-se eficientment de forma oral i per esc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Treballar en equ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Utilitzar amb solvència els recursos d'informa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apacitat d’aprendre de forma autòn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907920"/>
            <a:ext cx="784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484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E551-067E-43CC-8425-86145A81952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865080"/>
            <a:ext cx="8602560" cy="59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Competències específiq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Instrumentals bà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Científico-tecnològiques d’un àmbit determi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Tecnològiques aplic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EC: </a:t>
            </a: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requisits per a la verificació dels títols vinculats a l’exercici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professions regulades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- denominació dels títols, competències que 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d’adquirir l’estudiantat i planificació dels plans d’estudis (nombre total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rèdits i distribució en mòdul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Elements que han d’especificar les propostes de plans d’estudis de la UPC pel que fa a les competèn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mpetències genèriques i específiques del perfil dels titula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Objectius formatius per a cadascuna de les competè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ètodes docents i d’avaluaci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structura per al seguiment i la millora continuada dels processos relacionats amb el desenvolupament de les competè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0720" y="185760"/>
            <a:ext cx="50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2. El model d’aprenentat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DCED-A577-42B0-87F4-114060CF7F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87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3. L’estructura del pla d’estudi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850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El pla d’estudis: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Proposta de formaci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dissenyada de forma coordin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nsiderant la dedicació dels estudiants en un període determi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structura de matèries i crèd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herent amb els objectius generals i les competències defin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recolzada en mecanismes de coordinació do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Continguts, activitats formatives, sistema d’avaluació i requisits previs especificats a cada matè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adequats per afavorir la consecució de les competències prev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La planificació i seqüenciació temporal dels ensenyaments ha de perme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la coordinació entre assignatures i matè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l’adequació de la dedicació real de l’estudiant a la prev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FFAA-3BE8-4D9D-A177-B61D3AEAF72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6699"/>
                </a:solidFill>
                <a:latin typeface="Arial"/>
              </a:rPr>
              <a:t>3. L’estructura del pla d’estudi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693720"/>
            <a:ext cx="84582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Elements que configuren el pla d’estu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Equivalència en hores del crèdit ECTS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: 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(dedicació total prevista de l'estudiantat: 1.500 hores / any acadèmic)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Tipus de matèries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 que inclouran els plans d’estud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De formació bàsica (mínim 6 ECTS per assigna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Obligatò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Opt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Pràctiques en empr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Treball de fi de grau (TF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Nombre de matèries d'una titulació: 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entre 12 i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Descripció dels plans d’estudis de grau de la UPC - dos nivells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tèries - Consell de Govern de la UPC i M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Desplegament de les matèries en assignatures – Junta d’Escola i Consell de Govern de la UP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C160-178C-4F20-AF0D-80667D1988F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13:48:49Z</dcterms:created>
  <dc:creator>vs</dc:creator>
  <dc:description/>
  <dc:language>en-US</dc:language>
  <cp:lastModifiedBy>UPCnet</cp:lastModifiedBy>
  <dcterms:modified xsi:type="dcterms:W3CDTF">2008-02-01T12:05:08Z</dcterms:modified>
  <cp:revision>340</cp:revision>
  <dc:subject/>
  <dc:title>Presentación de PowerPoint</dc:title>
</cp:coreProperties>
</file>